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E63F-9AE7-4FE8-ADBA-CCC7AA05A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A3D6-809C-4919-BEC1-1E858CCC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0147-66EE-4A5C-BCDD-6E86DCB15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2AD1-86A1-476E-9C28-5732F2BD0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CC02-8BD6-4937-8E55-D82A7D199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9542-F82B-4061-9909-432D2872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CBF4-ED01-4C96-92F2-00B9A311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C9CE-852E-4D7F-B1E7-5739862C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2CFA7-613C-49FB-ACFE-12D52673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F6FE-C2D8-466F-9B23-E1C4F198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6420-483E-47CE-AEA2-96227903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2321-C0A5-4976-A6D9-D1C1BE94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CA9F-CC60-42E9-AD0A-6ACD230A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2EF2-C470-4A92-8111-98006CE7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8C0E-BF4E-4920-9EEF-D5358BB0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2D79-3F3F-4C0E-8E00-BAA5DE212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960A-EB50-4000-9970-4352D7FE7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57AA-B1BA-4AC2-B425-8B09640E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5492-2686-4771-B3B3-9010C2DC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8A89-FBD9-4873-9850-CA14B0F7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7392-2C8D-4065-B251-7DF27BF4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70B1-F0A3-4C9B-84F4-23D1531C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219E-6A34-4B42-8952-3552AEA2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466B-2DF6-459E-9202-AD2789FB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BE1A-C2FC-4F39-A47F-60C3F79325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5A3B-AAD3-4554-9824-1F0BFB57D6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Учебно-исследовательская и проектная деятельность учащихся в условиях введения ФГОС общего образования нового поколения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43828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Шухат Ирина Николаевна, заведующий кафедрой преподавания общеобразовательных предметов ГАУДПО МО «Институт развития образования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214200"/>
            <a:ext cx="79531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Виды универсальных учебных действий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2017800"/>
            <a:ext cx="87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УУД познавательной направленности (универсальные логические действия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анализ объектов с целью выделения признаков (существенных, несущественных)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интез как составление целого из час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дведение под понятия, выведение следствий; установление причинно - следственных связей, построение логической цепи рассуждений, доказательство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ыдвижение гипотез и их обосновани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Виды универсальных учебных действий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Коммуникативные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планирование учебного сотрудничества с учителем и сверстниками; постановка вопросов; разрешение конфликтов; управление поведением партнера; умение с достаточной полнотой и точностью выражать свои мысли в соответствии с задачами и условиями коммуникации; владение монологической и диалогической формами речи в соответствии с грамматическими и синтаксическими нормами родного язы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В соответствии с ФГОС на уровне начального общего образования осуществляется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Формирование основ умения учиться и способности к организации своей деятельности – умение принимать, сохранять цели и следовать им в учебной деятельности, планировать свою деятельность, осуществлять ее оценку и контроль, взаимодействовать с педагогами и сверстниками в учебном процессе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Стандарт устанавливает требования к результатам учащихся, освоивших программу НОО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етапредметным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ключающими освоенные учащимисяиуниверсальные учебные действия (познавательные, регулятивные, коммуникативные), обеспечивающие владение ключевыми компетенциями, составляющими основу умения учиться, и межпредметными понятия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ФГОС ООО, утвержденный приказом Министерства образования и науки РФ от 17.12.2010 № 1897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основе Стандарта лежит системно-деятельностный подход, который обеспечивает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ектирование и конструирование социальной среды развития обучающихся в системе образования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Стандарт ориентирован на становление личностных характеристик</a:t>
            </a:r>
            <a:r>
              <a:rPr b="1" i="1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выпускника («портрет выпускника основной школы»)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ктивно и заинтересованно познающий мир, осознающий ценность труда, науки и творчеств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меющий учиться, осознающий важность образования и самообразования для жизни и деятельности, способный применять полученные знания на практике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ект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09480" y="201780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рганизационно-подготовительный эта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657240" y="2017800"/>
            <a:ext cx="5297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знавательные УУД: поиск решения задач, информации, сравнение, эмпирическое исследова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90720" y="2017800"/>
            <a:ext cx="2133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рганизационно-подготовительный эта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352680" y="2017800"/>
            <a:ext cx="560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ммуникативные УУД: организация и осуществление сотрудничества, учет позиции партнера, передача информаци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егулятивные УУД планирование, рефлексия, ориентировка, прогнозирование, целеполага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182600" y="2017800"/>
            <a:ext cx="232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исково-исследовательский эта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733560" y="2017800"/>
            <a:ext cx="522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знавательные УУД: поиск решения задач, информации, сравнение, теоретическое исследование, выстраивание стратегии поиска решения зада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14400" y="201780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исково-исследовательский эта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352680" y="2017800"/>
            <a:ext cx="560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ммуникативные УУД: организация и осуществление сотрудничества, учет позиции партнера, передача информации и отображение предметного содержания, тренинги коммуникативных навык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2017440"/>
            <a:ext cx="842148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Истребление зануд есть долг каждого порядочного человека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Л.Д. Ландау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" y="3228840"/>
            <a:ext cx="235260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160" y="2017800"/>
            <a:ext cx="2361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исково-исследовательский эта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123720" y="2017800"/>
            <a:ext cx="5830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егулятивные УУД планирование, рефлексия, ориентировка в ситуации, прогнозирование, принятие решения, самоконтроль, коррекц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33160" y="201780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кспертно-оценочный эта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8120" y="2017800"/>
            <a:ext cx="590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знавательные УУД: задачи на смысловое чтение, сравнение, оценива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ммуникативные УУД: осуществление сотрудничества, учет позиции партнера, передача информации и отображение предметного содерж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09480" y="201780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кспертно-оценочный эта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429000" y="2017800"/>
            <a:ext cx="552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егулятивные УУД рефлексия, ориентировка в ситуации, принятие решения, самоконтроль, оценива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Личностные УУ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ичностное самоопредел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витие Я-концепц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тивац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мыслообразова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Планирование содержания учебного проекта и этапов его провед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пределение учителем темы проекта (ориентирован на программу, учебный план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Формулирование основополагающего вопрос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Формулирование вопроса учебной темы (проблемные вопросы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Формулирование содержательных вопросов для исследований учащихс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Формулирование целей проект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Формулирование  задач проектной деятельност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Формулирование проблем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ыдвижение гипотез решения проблем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80520" y="1980720"/>
            <a:ext cx="873756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пределение творческого названия проек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Формирование групп для проведения исследован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бсуждение плана работы учащихся индивидуально или в групп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бсуждение со школьниками возможных источников информации, защита авторских пра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амостоятельная работа учащихся в группах, обсуждение задания каждого в групп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амостоятельная работа групп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дготовка учащимися презентации по отчету о проделанной работ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ащита полученных результатов и вывод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ценивание результатов проекта школьниками и учителе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Требования к содержанию и организации проведения учебного проект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09480" y="20178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оект полностью ориентирован на учебную программу и учебный пла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одержание проекта понятно, представлено логично и удобно для восприя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Деятельность в рамках учебного проекта помогает учащимся интерпретировать, оценивать и систематизировать  информаци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Tahoma"/>
              </a:rPr>
              <a:t>Регламентация организации учебно-исследовательской и проектной деятельности учащихся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. Фундаментальное ядро содержания общего образов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. ФГОС НОО, утвержденный приказом Министерства образования и науки РФ от 06.10.2009 № 37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3. ФГОС ООО, утвержденный приказом Министерства образования и науки РФ от 17.12.2010 № 189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4. Примерная основная образовательная программ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ели и темы обучения изложены ясно, хорошо определены, соответствуют ФГ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ебный проект поддерживает разноуровневое обуч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е материалы проекта созданы с соблюдение авторских прав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оект характеризуется большой оригинальностью идей, исследовательским подходом, использованием широкого спектра первоисточник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атериалы проекта богаты оригинальными элемента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09480" y="20178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ект направлен на личносто-ориентированное обучение, технологию сотрудничеств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боту над проектом осуществляли в равной мере все члены группы (все учащиеся класса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лементы дизайна презентации проекта представляют собой педагогически обоснованное единств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ключены инструменты для оценивания всех намеченных целей обуч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нструменты оценивания содержат конкретные тематические критер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омпоненты учебного проекта хорошо подготовлены для использов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Главное — делайте всё с увлечением: это страшно украшает жизнь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Л.Д. Ландау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235260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Фундаментальное ядро содержания общего образова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2558880"/>
            <a:ext cx="6019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азовый документ, необходимый для создания базисных учебных планов, программ, учебно-методических материалов и пособ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ределены основные формы деятельности и соответствующие 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лассы задач, умение решать которые свидетельствует 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ункциональной грамо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553080" y="3657600"/>
            <a:ext cx="221940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Фундаментальное ядро содержания общего образова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2017800"/>
            <a:ext cx="8726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азвитие личности в системе образования обеспечивается прежде всего формированием универсальных учебных действий (УУД), выступающих в качестве основы образовательного процесс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Инвариантная основ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образовательного процесса – формирование УУ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Виды универсальных учебных действий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2017800"/>
            <a:ext cx="8726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Личностные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жизненное, личностное, профессиональное самоопределение; действия смыслообразования и нравственно - этического оценивания, ориентации в социальных ролях и межличностных отношениях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Виды универсальных учебных действий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Регулятивные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действия, обеспечивающие организацию учащимся своей учебной деятельности: целеполагание как постановка учебной задачи; планирование; составление плана и последовательности действий; прогнозирование; контроль; коррекция; оцен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Виды универсальных учебных действий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УД познавательной направленности (общеучебные УУД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ействия постановки и решения проблем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амостоятельное выделение и формулирование познавательной цели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иск и выделение необходимой информации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менение методов информационного поиска, в том числе с помощью компьютерных средств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аково - символические действия, включая моделирование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мение структурировать знания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мение осознанно и произвольно строить речевое высказывание в устной и письменной форме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Виды универсальных учебных действий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УУД познавательной направленности (общеучебные УУД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бор наиболее эффективных способов решения задач в зависимости от конкретных услови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ефлексия способов и условий действия, контроль и оценка процесса и результатов деятельност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мысловое чтение как осмысление цели чтения и выбор вида чтения в зависимости от цел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1T01:42:28Z</dcterms:created>
  <dc:creator>Шухат</dc:creator>
  <dc:description/>
  <dc:language>en-US</dc:language>
  <cp:lastModifiedBy>Шухат</cp:lastModifiedBy>
  <dcterms:modified xsi:type="dcterms:W3CDTF">2014-12-11T03:45:22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